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AEA5-3B19-48F1-AA20-0D943E5E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7A4F-5BC5-4151-B388-9A6992C9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4E1D-D507-4FD1-A3C2-B1A2A5C6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0839-44B8-4CEB-AD2D-F3EAB9E5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FA89-9C01-4BC4-8BCE-DE9B1D35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0164-C9D7-45BF-9168-B1EC5531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EAAE-0D93-478C-AE6A-9F63F4CF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63B6-3FAA-4EDF-B9D2-B6695D9F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7830-6737-4422-B93D-99FC7241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1C03-5093-451A-8F04-DCFF27B3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79A3-59F7-4928-8169-A54BE629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94C6-BF59-463C-9D94-9A13F95E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39DE-80E1-4A13-ACEE-8C74187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7D5-9A26-4AEF-AEE7-AF2BF83E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43AD-B5CD-41B4-9926-8ADA9C11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4ECF-5A72-43DD-9D50-45581C40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7394-4567-4308-81BE-17DC2008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9CF1-12C9-43F2-B5B4-F4D27B06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B3AF-F187-4CA9-9558-6D551EEC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3A17-ACC7-41D4-BF47-4DD80093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69D3-19E7-47F0-B141-2B908A3B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7061-EEF0-473E-B020-8029E0F5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135B-9CC5-4928-BFB1-1B49E22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18B5-A0B5-455E-A80A-838291C1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BBDF-68D4-4ABB-ACA2-DB1AAB96E1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372F-0923-432C-A303-4F863C4E05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om Sinai To Kades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s 10:11 – 14: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 of Lesson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181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486400" y="190512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ades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Sinai To Kades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aining About Circumstances –Num.11:1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aining About Food – 11:4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es Complains About The People -11:10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es Complains About His Own Life – 11:14-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Provides For Moses – 11:16-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Provides For The People – 11:31-3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nishing Pla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Sinai to Kades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ure of Miriam and Aaron 12:1-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riam and Aaron Reb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riam is Pu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 Interce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riam is Re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ailure At Kades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stigating The Promised Land -13:1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Rebels Against God – 14:1-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 Intercedes – 14:11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Judges Israel – 14:20-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0 Years of Wand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Rebels Against God’s Judg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 Warns Israel – 14:39-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lekites Defeat Israel – 14: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in Memory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tt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ar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f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Egypt to Sin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in Memory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hovah Makes A Coven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Command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berna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les of Sacrifices &amp; Fea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ship Set In Or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Holy For I Am Ho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mbered and Organ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essings &amp; Curses: Obedience vs. Disobe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in Memory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Sinai To Kad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aints &amp;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S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hua &amp; Cal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 Years of Wand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9 Summary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tt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of Mo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Egypt to Sin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hovah Makes A Coven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inai To Kade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7:08:03Z</dcterms:created>
  <dc:creator>Terry W. Benton</dc:creator>
  <dc:description/>
  <dc:language>en-US</dc:language>
  <cp:lastModifiedBy>Terry W. Benton</cp:lastModifiedBy>
  <dcterms:modified xsi:type="dcterms:W3CDTF">2004-11-30T17:01:35Z</dcterms:modified>
  <cp:revision>4</cp:revision>
  <dc:subject/>
  <dc:title>From Sinai To Kadesh</dc:title>
</cp:coreProperties>
</file>